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9DE-7186-4956-B044-BDF68E1F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56A-15A4-4F84-86D0-A34808A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737-8C0F-4F57-9D61-F3CAD453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002-FEFA-435A-835C-F2D7158E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E16-2387-404B-B9F2-1144E99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546-4265-4113-AB6C-7E03A89C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562-D4AF-4B3F-90EE-5FE72F73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FDA-173D-42E8-9AFE-12A2C5E9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9FC-FA9D-4B54-847F-E049C717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21D-8465-40CC-AE3C-3E6390A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9AE-AFDE-47C8-BE0E-57767948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26A-FCFD-4B0B-AF84-7639F84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F89C-E1E5-47DF-97E7-4B2155A01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The EVW </a:t>
            </a:r>
            <a:br>
              <a:rPr sz="6600"/>
            </a:b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 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403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2:06:20Z</dcterms:modified>
  <cp:revision>44</cp:revision>
  <dc:subject/>
  <dc:title>PowerPoint Presentation</dc:title>
</cp:coreProperties>
</file>